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0F0-34C5-4BFB-9F37-BD8FD887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827-1AB9-44CD-926A-92683B10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AA9-7F59-449B-865E-0C9FAF89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7E9-FEFB-4F52-A5DD-D92B3376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C9B-B6D5-4FCC-833F-AEB6FA6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0F3-761B-4998-A953-6C3E70B1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712-7BE6-4F4B-A0CD-5E7C0CB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0C2-E387-402C-ABC1-4BBD4B26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F72-0A10-4EED-9875-80EE8A31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962-BA0E-488A-9C75-BE88F22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61A-A262-40D3-841D-E45A390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A63-66BD-4FC0-836E-1E5E5CF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52275-5EEA-46A5-8620-AEF2EAEF65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БДОУ № 3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928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РУППА « СКАЗ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оспитатель: Козик А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ВАС МЫ ОБЕСПЕЧИ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мфотное и уютное пребывание вашего ребен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боту и внима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7160" y="2340000"/>
            <a:ext cx="3340800" cy="3602160"/>
            <a:chOff x="5717160" y="2340000"/>
            <a:chExt cx="3340800" cy="3602160"/>
          </a:xfrm>
        </p:grpSpPr>
        <p:grpSp>
          <p:nvGrpSpPr>
            <p:cNvPr id="85" name=""/>
            <p:cNvGrpSpPr/>
            <p:nvPr/>
          </p:nvGrpSpPr>
          <p:grpSpPr>
            <a:xfrm>
              <a:off x="5717160" y="3780000"/>
              <a:ext cx="1105560" cy="1000080"/>
              <a:chOff x="5717160" y="3780000"/>
              <a:chExt cx="1105560" cy="1000080"/>
            </a:xfrm>
          </p:grpSpPr>
          <p:sp>
            <p:nvSpPr>
              <p:cNvPr id="86" name=""/>
              <p:cNvSpPr/>
              <p:nvPr/>
            </p:nvSpPr>
            <p:spPr>
              <a:xfrm>
                <a:off x="6177600" y="3780000"/>
                <a:ext cx="645120" cy="881640"/>
              </a:xfrm>
              <a:custGeom>
                <a:avLst/>
                <a:gdLst/>
                <a:ahLst/>
                <a:rect l="l" t="t" r="r" b="b"/>
                <a:pathLst>
                  <a:path w="1933" h="2189">
                    <a:moveTo>
                      <a:pt x="1932" y="1810"/>
                    </a:moveTo>
                    <a:lnTo>
                      <a:pt x="917" y="0"/>
                    </a:lnTo>
                    <a:lnTo>
                      <a:pt x="0" y="2188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160000">
                <a:off x="5759280" y="4370040"/>
                <a:ext cx="477000" cy="298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7612200" y="2340000"/>
              <a:ext cx="1290600" cy="17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8110440" y="3351600"/>
              <a:ext cx="947520" cy="1240560"/>
              <a:chOff x="8110440" y="3351600"/>
              <a:chExt cx="947520" cy="1240560"/>
            </a:xfrm>
          </p:grpSpPr>
          <p:sp>
            <p:nvSpPr>
              <p:cNvPr id="90" name=""/>
              <p:cNvSpPr/>
              <p:nvPr/>
            </p:nvSpPr>
            <p:spPr>
              <a:xfrm>
                <a:off x="8110440" y="3698640"/>
                <a:ext cx="558720" cy="893520"/>
              </a:xfrm>
              <a:custGeom>
                <a:avLst/>
                <a:gdLst/>
                <a:ahLst/>
                <a:rect l="l" t="t" r="r" b="b"/>
                <a:pathLst>
                  <a:path w="1693" h="2417">
                    <a:moveTo>
                      <a:pt x="0" y="1355"/>
                    </a:moveTo>
                    <a:lnTo>
                      <a:pt x="1692" y="2416"/>
                    </a:lnTo>
                    <a:lnTo>
                      <a:pt x="1355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9320000">
                <a:off x="8505720" y="3463560"/>
                <a:ext cx="491400" cy="3664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798160" y="4660920"/>
              <a:ext cx="1103760" cy="1281240"/>
              <a:chOff x="5798160" y="4660920"/>
              <a:chExt cx="1103760" cy="128124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5911200" y="4660920"/>
                <a:ext cx="990720" cy="78624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280000">
                <a:off x="5614920" y="5542560"/>
                <a:ext cx="589320" cy="2023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898320" y="3311640"/>
              <a:ext cx="1037160" cy="782280"/>
              <a:chOff x="6898320" y="3311640"/>
              <a:chExt cx="1037160" cy="782280"/>
            </a:xfrm>
          </p:grpSpPr>
          <p:sp>
            <p:nvSpPr>
              <p:cNvPr id="96" name=""/>
              <p:cNvSpPr/>
              <p:nvPr/>
            </p:nvSpPr>
            <p:spPr>
              <a:xfrm>
                <a:off x="7241400" y="3311640"/>
                <a:ext cx="694080" cy="682560"/>
              </a:xfrm>
              <a:custGeom>
                <a:avLst/>
                <a:gdLst/>
                <a:ahLst/>
                <a:rect l="l" t="t" r="r" b="b"/>
                <a:pathLst>
                  <a:path w="1905" h="1901">
                    <a:moveTo>
                      <a:pt x="1904" y="1900"/>
                    </a:moveTo>
                    <a:lnTo>
                      <a:pt x="826" y="0"/>
                    </a:lnTo>
                    <a:lnTo>
                      <a:pt x="0" y="1674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1340000">
                <a:off x="6926040" y="3679920"/>
                <a:ext cx="380520" cy="3862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rot="20640000">
              <a:off x="6810480" y="3989520"/>
              <a:ext cx="1439640" cy="71748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710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АМ МЫ ПРЕДОСТАВИ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для развития ,воспитания и обучения ваших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м к социальной успешной готовности к шко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51600" y="2101680"/>
            <a:ext cx="4200480" cy="49896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51920" y="8080200"/>
            <a:ext cx="966600" cy="1636560"/>
            <a:chOff x="8251920" y="8080200"/>
            <a:chExt cx="966600" cy="16365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520120" y="8080200"/>
              <a:ext cx="496800" cy="43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8780400" y="8542440"/>
              <a:ext cx="438120" cy="433080"/>
              <a:chOff x="8780400" y="8542440"/>
              <a:chExt cx="438120" cy="433080"/>
            </a:xfrm>
          </p:grpSpPr>
          <p:sp>
            <p:nvSpPr>
              <p:cNvPr id="105" name=""/>
              <p:cNvSpPr/>
              <p:nvPr/>
            </p:nvSpPr>
            <p:spPr>
              <a:xfrm>
                <a:off x="8780400" y="8542440"/>
                <a:ext cx="422280" cy="379440"/>
              </a:xfrm>
              <a:custGeom>
                <a:avLst/>
                <a:gdLst/>
                <a:ahLst/>
                <a:rect l="l" t="t" r="r" b="b"/>
                <a:pathLst>
                  <a:path w="1175" h="1057">
                    <a:moveTo>
                      <a:pt x="0" y="0"/>
                    </a:moveTo>
                    <a:cubicBezTo>
                      <a:pt x="1174" y="305"/>
                      <a:pt x="1086" y="1029"/>
                      <a:pt x="1074" y="105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102600" y="8877600"/>
                <a:ext cx="115920" cy="979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8474040" y="9123480"/>
              <a:ext cx="253440" cy="593280"/>
              <a:chOff x="8474040" y="9123480"/>
              <a:chExt cx="253440" cy="59328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8597520" y="9123480"/>
                <a:ext cx="129960" cy="56520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74040" y="9609120"/>
                <a:ext cx="188280" cy="107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8793000" y="9109080"/>
              <a:ext cx="298440" cy="502920"/>
              <a:chOff x="8793000" y="9109080"/>
              <a:chExt cx="298440" cy="502920"/>
            </a:xfrm>
          </p:grpSpPr>
          <p:sp>
            <p:nvSpPr>
              <p:cNvPr id="111" name=""/>
              <p:cNvSpPr/>
              <p:nvPr/>
            </p:nvSpPr>
            <p:spPr>
              <a:xfrm>
                <a:off x="8910720" y="9531360"/>
                <a:ext cx="180720" cy="80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93000" y="9109080"/>
                <a:ext cx="149400" cy="43668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8251920" y="8197920"/>
              <a:ext cx="474120" cy="541440"/>
              <a:chOff x="8251920" y="8197920"/>
              <a:chExt cx="474120" cy="541440"/>
            </a:xfrm>
          </p:grpSpPr>
          <p:sp>
            <p:nvSpPr>
              <p:cNvPr id="114" name=""/>
              <p:cNvSpPr/>
              <p:nvPr/>
            </p:nvSpPr>
            <p:spPr>
              <a:xfrm>
                <a:off x="8251920" y="8325000"/>
                <a:ext cx="119520" cy="1238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36880" y="843768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1088" h="839">
                    <a:moveTo>
                      <a:pt x="1087" y="315"/>
                    </a:moveTo>
                    <a:lnTo>
                      <a:pt x="554" y="838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14560" y="8197920"/>
                <a:ext cx="42480" cy="203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8640720" y="8521560"/>
              <a:ext cx="246240" cy="62244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19640" y="2879640"/>
            <a:ext cx="2589120" cy="3706560"/>
            <a:chOff x="6119640" y="2879640"/>
            <a:chExt cx="2589120" cy="37065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6840360" y="2879640"/>
              <a:ext cx="1328760" cy="9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7532640" y="3925800"/>
              <a:ext cx="1176120" cy="982440"/>
              <a:chOff x="7532640" y="3925800"/>
              <a:chExt cx="1176120" cy="982440"/>
            </a:xfrm>
          </p:grpSpPr>
          <p:sp>
            <p:nvSpPr>
              <p:cNvPr id="121" name=""/>
              <p:cNvSpPr/>
              <p:nvPr/>
            </p:nvSpPr>
            <p:spPr>
              <a:xfrm>
                <a:off x="7532640" y="3925800"/>
                <a:ext cx="1128600" cy="857520"/>
              </a:xfrm>
              <a:custGeom>
                <a:avLst/>
                <a:gdLst/>
                <a:ahLst/>
                <a:rect l="l" t="t" r="r" b="b"/>
                <a:pathLst>
                  <a:path w="3142" h="2392">
                    <a:moveTo>
                      <a:pt x="0" y="0"/>
                    </a:moveTo>
                    <a:cubicBezTo>
                      <a:pt x="3141" y="691"/>
                      <a:pt x="2905" y="2330"/>
                      <a:pt x="2873" y="2391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97000" y="4686840"/>
                <a:ext cx="311760" cy="221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715080" y="5241960"/>
              <a:ext cx="680400" cy="1344240"/>
              <a:chOff x="6715080" y="5241960"/>
              <a:chExt cx="680400" cy="134424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7050960" y="5241960"/>
                <a:ext cx="344520" cy="128088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15080" y="6342480"/>
                <a:ext cx="505440" cy="2437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569360" y="5207040"/>
              <a:ext cx="799560" cy="1140840"/>
              <a:chOff x="7569360" y="5207040"/>
              <a:chExt cx="799560" cy="114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884360" y="6165720"/>
                <a:ext cx="484560" cy="1821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569360" y="5207040"/>
                <a:ext cx="399240" cy="98892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119640" y="3144960"/>
              <a:ext cx="1274400" cy="1225080"/>
              <a:chOff x="6119640" y="3144960"/>
              <a:chExt cx="1274400" cy="1225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119640" y="3432600"/>
                <a:ext cx="322920" cy="280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9320" y="3687840"/>
                <a:ext cx="1044720" cy="682200"/>
              </a:xfrm>
              <a:custGeom>
                <a:avLst/>
                <a:gdLst/>
                <a:ahLst/>
                <a:rect l="l" t="t" r="r" b="b"/>
                <a:pathLst>
                  <a:path w="2909" h="1899">
                    <a:moveTo>
                      <a:pt x="2908" y="714"/>
                    </a:moveTo>
                    <a:lnTo>
                      <a:pt x="1482" y="1898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92080" y="3144960"/>
                <a:ext cx="114120" cy="458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7161120" y="3879720"/>
              <a:ext cx="658800" cy="14065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6710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Ы ОТВЕЧАЕМ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 жизнь и здоровье ваших детей их психологическое благополуч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соблюдение прав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940360" y="1619280"/>
            <a:ext cx="3417480" cy="4857120"/>
            <a:chOff x="5940360" y="1619280"/>
            <a:chExt cx="3417480" cy="48571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881760" y="1619280"/>
              <a:ext cx="1697040" cy="131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845480" y="2939400"/>
              <a:ext cx="1512360" cy="623160"/>
              <a:chOff x="7845480" y="2939400"/>
              <a:chExt cx="1512360" cy="62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7845480" y="3043800"/>
                <a:ext cx="1062720" cy="518760"/>
              </a:xfrm>
              <a:custGeom>
                <a:avLst/>
                <a:gdLst/>
                <a:ahLst/>
                <a:rect l="l" t="t" r="r" b="b"/>
                <a:pathLst>
                  <a:path w="2961" h="1443">
                    <a:moveTo>
                      <a:pt x="0" y="70"/>
                    </a:moveTo>
                    <a:lnTo>
                      <a:pt x="1909" y="1442"/>
                    </a:lnTo>
                    <a:lnTo>
                      <a:pt x="296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813160" y="2939400"/>
                <a:ext cx="544680" cy="293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00880" y="4759920"/>
              <a:ext cx="1088640" cy="1716480"/>
              <a:chOff x="6500880" y="4759920"/>
              <a:chExt cx="1088640" cy="17164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7038720" y="4759920"/>
                <a:ext cx="550800" cy="163620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00880" y="6166080"/>
                <a:ext cx="808560" cy="3103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7810560" y="4713840"/>
              <a:ext cx="1239480" cy="1367280"/>
              <a:chOff x="7810560" y="4713840"/>
              <a:chExt cx="1239480" cy="1367280"/>
            </a:xfrm>
          </p:grpSpPr>
          <p:sp>
            <p:nvSpPr>
              <p:cNvPr id="145" name=""/>
              <p:cNvSpPr/>
              <p:nvPr/>
            </p:nvSpPr>
            <p:spPr>
              <a:xfrm>
                <a:off x="8298720" y="5864040"/>
                <a:ext cx="751320" cy="217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0560" y="4713840"/>
                <a:ext cx="619920" cy="118656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940360" y="2727000"/>
              <a:ext cx="1595160" cy="783360"/>
              <a:chOff x="5940360" y="2727000"/>
              <a:chExt cx="1595160" cy="783360"/>
            </a:xfrm>
          </p:grpSpPr>
          <p:sp>
            <p:nvSpPr>
              <p:cNvPr id="148" name=""/>
              <p:cNvSpPr/>
              <p:nvPr/>
            </p:nvSpPr>
            <p:spPr>
              <a:xfrm>
                <a:off x="6472440" y="2895840"/>
                <a:ext cx="1063080" cy="614520"/>
              </a:xfrm>
              <a:custGeom>
                <a:avLst/>
                <a:gdLst/>
                <a:ahLst/>
                <a:rect l="l" t="t" r="r" b="b"/>
                <a:pathLst>
                  <a:path w="2958" h="1716">
                    <a:moveTo>
                      <a:pt x="2957" y="412"/>
                    </a:moveTo>
                    <a:lnTo>
                      <a:pt x="1089" y="1715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0360" y="2727000"/>
                <a:ext cx="603360" cy="3711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289640" y="2950560"/>
              <a:ext cx="841680" cy="18691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710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Ы  ЖДЕМ ВСТРЕЧИ С ВАМИ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чего на свете лучше нету, чем ходить,друзья на группу э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з не надо,если «Сказка» рядом,чудесам всегда ребята рядо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51600" y="2101680"/>
            <a:ext cx="4200480" cy="49896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5759280" y="2700360"/>
            <a:ext cx="3418200" cy="2877840"/>
            <a:chOff x="5759280" y="2700360"/>
            <a:chExt cx="3418200" cy="2877840"/>
          </a:xfrm>
        </p:grpSpPr>
        <p:grpSp>
          <p:nvGrpSpPr>
            <p:cNvPr id="155" name=""/>
            <p:cNvGrpSpPr/>
            <p:nvPr/>
          </p:nvGrpSpPr>
          <p:grpSpPr>
            <a:xfrm>
              <a:off x="5759280" y="2700360"/>
              <a:ext cx="3418200" cy="2877840"/>
              <a:chOff x="5759280" y="2700360"/>
              <a:chExt cx="3418200" cy="2877840"/>
            </a:xfrm>
          </p:grpSpPr>
          <p:sp>
            <p:nvSpPr>
              <p:cNvPr id="156" name=""/>
              <p:cNvSpPr/>
              <p:nvPr/>
            </p:nvSpPr>
            <p:spPr>
              <a:xfrm>
                <a:off x="6132240" y="3351960"/>
                <a:ext cx="2416680" cy="1478520"/>
              </a:xfrm>
              <a:prstGeom prst="ellipse">
                <a:avLst/>
              </a:prstGeom>
              <a:solidFill>
                <a:srgbClr val="9a0810"/>
              </a:solidFill>
              <a:ln w="39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67840" y="3156840"/>
                <a:ext cx="878400" cy="439920"/>
              </a:xfrm>
              <a:custGeom>
                <a:avLst/>
                <a:gdLst/>
                <a:ahLst/>
                <a:rect l="l" t="t" r="r" b="b"/>
                <a:pathLst>
                  <a:path w="2615" h="1393">
                    <a:moveTo>
                      <a:pt x="555" y="511"/>
                    </a:moveTo>
                    <a:cubicBezTo>
                      <a:pt x="1346" y="141"/>
                      <a:pt x="1949" y="0"/>
                      <a:pt x="2263" y="581"/>
                    </a:cubicBezTo>
                    <a:cubicBezTo>
                      <a:pt x="2614" y="1392"/>
                      <a:pt x="949" y="299"/>
                      <a:pt x="510" y="903"/>
                    </a:cubicBezTo>
                    <a:cubicBezTo>
                      <a:pt x="402" y="784"/>
                      <a:pt x="0" y="759"/>
                      <a:pt x="555" y="511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79960" y="3502080"/>
                <a:ext cx="757080" cy="471960"/>
              </a:xfrm>
              <a:custGeom>
                <a:avLst/>
                <a:gdLst/>
                <a:ahLst/>
                <a:rect l="l" t="t" r="r" b="b"/>
                <a:pathLst>
                  <a:path w="2253" h="1496">
                    <a:moveTo>
                      <a:pt x="1590" y="100"/>
                    </a:moveTo>
                    <a:cubicBezTo>
                      <a:pt x="635" y="0"/>
                      <a:pt x="0" y="50"/>
                      <a:pt x="103" y="664"/>
                    </a:cubicBezTo>
                    <a:cubicBezTo>
                      <a:pt x="326" y="1495"/>
                      <a:pt x="1096" y="26"/>
                      <a:pt x="1890" y="439"/>
                    </a:cubicBezTo>
                    <a:cubicBezTo>
                      <a:pt x="1908" y="301"/>
                      <a:pt x="2252" y="160"/>
                      <a:pt x="1590" y="100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45120" y="2972880"/>
                <a:ext cx="1709640" cy="1063800"/>
              </a:xfrm>
              <a:custGeom>
                <a:avLst/>
                <a:gdLst/>
                <a:ahLst/>
                <a:rect l="l" t="t" r="r" b="b"/>
                <a:pathLst>
                  <a:path w="5090" h="3371">
                    <a:moveTo>
                      <a:pt x="4974" y="743"/>
                    </a:moveTo>
                    <a:cubicBezTo>
                      <a:pt x="4974" y="1083"/>
                      <a:pt x="4433" y="1053"/>
                      <a:pt x="4951" y="2410"/>
                    </a:cubicBezTo>
                    <a:cubicBezTo>
                      <a:pt x="5089" y="2766"/>
                      <a:pt x="4715" y="3370"/>
                      <a:pt x="4199" y="3370"/>
                    </a:cubicBezTo>
                    <a:cubicBezTo>
                      <a:pt x="3682" y="3370"/>
                      <a:pt x="2354" y="3332"/>
                      <a:pt x="2020" y="2721"/>
                    </a:cubicBezTo>
                    <a:cubicBezTo>
                      <a:pt x="1391" y="1527"/>
                      <a:pt x="0" y="1902"/>
                      <a:pt x="457" y="1032"/>
                    </a:cubicBezTo>
                    <a:cubicBezTo>
                      <a:pt x="754" y="495"/>
                      <a:pt x="1273" y="335"/>
                      <a:pt x="2351" y="512"/>
                    </a:cubicBezTo>
                    <a:cubicBezTo>
                      <a:pt x="2666" y="221"/>
                      <a:pt x="3203" y="0"/>
                      <a:pt x="3719" y="0"/>
                    </a:cubicBezTo>
                    <a:cubicBezTo>
                      <a:pt x="4235" y="0"/>
                      <a:pt x="4974" y="252"/>
                      <a:pt x="4974" y="74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83880" y="4344840"/>
                <a:ext cx="630720" cy="393840"/>
              </a:xfrm>
              <a:prstGeom prst="ellipse">
                <a:avLst/>
              </a:pr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96120" y="3601080"/>
                <a:ext cx="1770480" cy="785160"/>
              </a:xfrm>
              <a:custGeom>
                <a:avLst/>
                <a:gdLst/>
                <a:ahLst/>
                <a:rect l="l" t="t" r="r" b="b"/>
                <a:pathLst>
                  <a:path w="5268" h="2489">
                    <a:moveTo>
                      <a:pt x="5149" y="690"/>
                    </a:moveTo>
                    <a:cubicBezTo>
                      <a:pt x="5267" y="1270"/>
                      <a:pt x="3881" y="2303"/>
                      <a:pt x="2979" y="2395"/>
                    </a:cubicBezTo>
                    <a:cubicBezTo>
                      <a:pt x="2076" y="2488"/>
                      <a:pt x="235" y="2110"/>
                      <a:pt x="118" y="1530"/>
                    </a:cubicBezTo>
                    <a:cubicBezTo>
                      <a:pt x="0" y="951"/>
                      <a:pt x="1383" y="185"/>
                      <a:pt x="2286" y="93"/>
                    </a:cubicBezTo>
                    <a:cubicBezTo>
                      <a:pt x="3189" y="0"/>
                      <a:pt x="5032" y="111"/>
                      <a:pt x="5149" y="690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66640" y="3482640"/>
                <a:ext cx="753840" cy="469080"/>
              </a:xfrm>
              <a:custGeom>
                <a:avLst/>
                <a:gdLst/>
                <a:ahLst/>
                <a:rect l="l" t="t" r="r" b="b"/>
                <a:pathLst>
                  <a:path w="2243" h="1485">
                    <a:moveTo>
                      <a:pt x="1585" y="130"/>
                    </a:moveTo>
                    <a:cubicBezTo>
                      <a:pt x="638" y="0"/>
                      <a:pt x="0" y="31"/>
                      <a:pt x="60" y="647"/>
                    </a:cubicBezTo>
                    <a:cubicBezTo>
                      <a:pt x="224" y="1484"/>
                      <a:pt x="1097" y="40"/>
                      <a:pt x="1861" y="478"/>
                    </a:cubicBezTo>
                    <a:cubicBezTo>
                      <a:pt x="1888" y="340"/>
                      <a:pt x="2242" y="210"/>
                      <a:pt x="1585" y="130"/>
                    </a:cubicBezTo>
                  </a:path>
                </a:pathLst>
              </a:custGeom>
              <a:solidFill>
                <a:srgbClr val="000000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1720" y="3126240"/>
                <a:ext cx="902160" cy="426240"/>
              </a:xfrm>
              <a:custGeom>
                <a:avLst/>
                <a:gdLst/>
                <a:ahLst/>
                <a:rect l="l" t="t" r="r" b="b"/>
                <a:pathLst>
                  <a:path w="2686" h="1350">
                    <a:moveTo>
                      <a:pt x="521" y="589"/>
                    </a:moveTo>
                    <a:cubicBezTo>
                      <a:pt x="1261" y="175"/>
                      <a:pt x="1843" y="0"/>
                      <a:pt x="2231" y="561"/>
                    </a:cubicBezTo>
                    <a:cubicBezTo>
                      <a:pt x="2685" y="1349"/>
                      <a:pt x="885" y="355"/>
                      <a:pt x="527" y="982"/>
                    </a:cubicBezTo>
                    <a:cubicBezTo>
                      <a:pt x="404" y="869"/>
                      <a:pt x="0" y="867"/>
                      <a:pt x="521" y="589"/>
                    </a:cubicBezTo>
                  </a:path>
                </a:pathLst>
              </a:custGeom>
              <a:solidFill>
                <a:srgbClr val="000000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52320" y="2939760"/>
                <a:ext cx="1709640" cy="1064880"/>
              </a:xfrm>
              <a:custGeom>
                <a:avLst/>
                <a:gdLst/>
                <a:ahLst/>
                <a:rect l="l" t="t" r="r" b="b"/>
                <a:pathLst>
                  <a:path w="5090" h="3372">
                    <a:moveTo>
                      <a:pt x="4974" y="744"/>
                    </a:moveTo>
                    <a:cubicBezTo>
                      <a:pt x="4974" y="1083"/>
                      <a:pt x="4433" y="1053"/>
                      <a:pt x="4951" y="2410"/>
                    </a:cubicBezTo>
                    <a:cubicBezTo>
                      <a:pt x="5089" y="2767"/>
                      <a:pt x="4715" y="3371"/>
                      <a:pt x="4199" y="3371"/>
                    </a:cubicBezTo>
                    <a:cubicBezTo>
                      <a:pt x="3682" y="3371"/>
                      <a:pt x="2354" y="3333"/>
                      <a:pt x="2020" y="2722"/>
                    </a:cubicBezTo>
                    <a:cubicBezTo>
                      <a:pt x="1390" y="1528"/>
                      <a:pt x="0" y="1903"/>
                      <a:pt x="457" y="1032"/>
                    </a:cubicBezTo>
                    <a:cubicBezTo>
                      <a:pt x="754" y="496"/>
                      <a:pt x="1273" y="335"/>
                      <a:pt x="2351" y="513"/>
                    </a:cubicBezTo>
                    <a:cubicBezTo>
                      <a:pt x="2666" y="221"/>
                      <a:pt x="3203" y="0"/>
                      <a:pt x="3719" y="0"/>
                    </a:cubicBezTo>
                    <a:cubicBezTo>
                      <a:pt x="4235" y="0"/>
                      <a:pt x="4974" y="253"/>
                      <a:pt x="4974" y="744"/>
                    </a:cubicBezTo>
                  </a:path>
                </a:pathLst>
              </a:custGeom>
              <a:solidFill>
                <a:srgbClr val="ffffff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10880" y="3571920"/>
                <a:ext cx="1769400" cy="785160"/>
              </a:xfrm>
              <a:custGeom>
                <a:avLst/>
                <a:gdLst/>
                <a:ahLst/>
                <a:rect l="l" t="t" r="r" b="b"/>
                <a:pathLst>
                  <a:path w="5267" h="2488">
                    <a:moveTo>
                      <a:pt x="5149" y="690"/>
                    </a:moveTo>
                    <a:cubicBezTo>
                      <a:pt x="5266" y="1270"/>
                      <a:pt x="3881" y="2303"/>
                      <a:pt x="2979" y="2395"/>
                    </a:cubicBezTo>
                    <a:cubicBezTo>
                      <a:pt x="2076" y="2487"/>
                      <a:pt x="235" y="2110"/>
                      <a:pt x="117" y="1531"/>
                    </a:cubicBezTo>
                    <a:cubicBezTo>
                      <a:pt x="0" y="951"/>
                      <a:pt x="1383" y="185"/>
                      <a:pt x="2286" y="93"/>
                    </a:cubicBezTo>
                    <a:cubicBezTo>
                      <a:pt x="3189" y="0"/>
                      <a:pt x="5031" y="110"/>
                      <a:pt x="5149" y="690"/>
                    </a:cubicBezTo>
                  </a:path>
                </a:pathLst>
              </a:custGeom>
              <a:solidFill>
                <a:srgbClr val="ffffff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45200" y="3709800"/>
                <a:ext cx="561240" cy="350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86120" y="3733200"/>
                <a:ext cx="241560" cy="215640"/>
              </a:xfrm>
              <a:custGeom>
                <a:avLst/>
                <a:gdLst/>
                <a:ahLst/>
                <a:rect l="l" t="t" r="r" b="b"/>
                <a:pathLst>
                  <a:path w="718" h="682">
                    <a:moveTo>
                      <a:pt x="460" y="681"/>
                    </a:moveTo>
                    <a:cubicBezTo>
                      <a:pt x="717" y="268"/>
                      <a:pt x="0" y="138"/>
                      <a:pt x="16" y="49"/>
                    </a:cubicBezTo>
                    <a:cubicBezTo>
                      <a:pt x="579" y="0"/>
                      <a:pt x="715" y="530"/>
                      <a:pt x="460" y="68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271920" y="2996640"/>
                <a:ext cx="1365840" cy="659880"/>
                <a:chOff x="6271920" y="2996640"/>
                <a:chExt cx="1365840" cy="659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271920" y="3117240"/>
                  <a:ext cx="774360" cy="539280"/>
                </a:xfrm>
                <a:custGeom>
                  <a:avLst/>
                  <a:gdLst/>
                  <a:ahLst/>
                  <a:rect l="l" t="t" r="r" b="b"/>
                  <a:pathLst>
                    <a:path w="2304" h="1715">
                      <a:moveTo>
                        <a:pt x="2083" y="738"/>
                      </a:moveTo>
                      <a:cubicBezTo>
                        <a:pt x="2303" y="1328"/>
                        <a:pt x="1945" y="1714"/>
                        <a:pt x="1370" y="1714"/>
                      </a:cubicBezTo>
                      <a:cubicBezTo>
                        <a:pt x="740" y="1076"/>
                        <a:pt x="0" y="1146"/>
                        <a:pt x="0" y="738"/>
                      </a:cubicBezTo>
                      <a:cubicBezTo>
                        <a:pt x="0" y="331"/>
                        <a:pt x="466" y="0"/>
                        <a:pt x="1041" y="0"/>
                      </a:cubicBezTo>
                      <a:cubicBezTo>
                        <a:pt x="1616" y="0"/>
                        <a:pt x="1918" y="312"/>
                        <a:pt x="2083" y="738"/>
                      </a:cubicBezTo>
                    </a:path>
                  </a:pathLst>
                </a:custGeom>
                <a:solidFill>
                  <a:srgbClr val="ffffff"/>
                </a:solidFill>
                <a:ln w="41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731640" y="3462480"/>
                  <a:ext cx="231120" cy="163440"/>
                </a:xfrm>
                <a:custGeom>
                  <a:avLst/>
                  <a:gdLst/>
                  <a:ahLst/>
                  <a:rect l="l" t="t" r="r" b="b"/>
                  <a:pathLst>
                    <a:path w="686" h="522">
                      <a:moveTo>
                        <a:pt x="654" y="229"/>
                      </a:moveTo>
                      <a:cubicBezTo>
                        <a:pt x="685" y="364"/>
                        <a:pt x="569" y="487"/>
                        <a:pt x="397" y="504"/>
                      </a:cubicBezTo>
                      <a:cubicBezTo>
                        <a:pt x="225" y="521"/>
                        <a:pt x="61" y="426"/>
                        <a:pt x="30" y="292"/>
                      </a:cubicBezTo>
                      <a:cubicBezTo>
                        <a:pt x="0" y="157"/>
                        <a:pt x="115" y="34"/>
                        <a:pt x="287" y="17"/>
                      </a:cubicBezTo>
                      <a:cubicBezTo>
                        <a:pt x="459" y="0"/>
                        <a:pt x="624" y="95"/>
                        <a:pt x="654" y="22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6977880" y="2996640"/>
                  <a:ext cx="659880" cy="545040"/>
                  <a:chOff x="6977880" y="2996640"/>
                  <a:chExt cx="659880" cy="5450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6977880" y="2996640"/>
                    <a:ext cx="65988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23" h="1965">
                        <a:moveTo>
                          <a:pt x="280" y="1232"/>
                        </a:moveTo>
                        <a:cubicBezTo>
                          <a:pt x="627" y="1794"/>
                          <a:pt x="1258" y="1964"/>
                          <a:pt x="1721" y="1738"/>
                        </a:cubicBezTo>
                        <a:cubicBezTo>
                          <a:pt x="1662" y="976"/>
                          <a:pt x="2322" y="742"/>
                          <a:pt x="1960" y="413"/>
                        </a:cubicBezTo>
                        <a:cubicBezTo>
                          <a:pt x="1598" y="84"/>
                          <a:pt x="927" y="0"/>
                          <a:pt x="464" y="226"/>
                        </a:cubicBezTo>
                        <a:cubicBezTo>
                          <a:pt x="0" y="452"/>
                          <a:pt x="34" y="823"/>
                          <a:pt x="280" y="1232"/>
                        </a:cubicBezTo>
                      </a:path>
                    </a:pathLst>
                  </a:custGeom>
                  <a:solidFill>
                    <a:srgbClr val="ffffff"/>
                  </a:solidFill>
                  <a:ln w="41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198200" y="3355920"/>
                    <a:ext cx="1864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657" h="507">
                        <a:moveTo>
                          <a:pt x="13" y="267"/>
                        </a:moveTo>
                        <a:cubicBezTo>
                          <a:pt x="26" y="403"/>
                          <a:pt x="179" y="506"/>
                          <a:pt x="352" y="499"/>
                        </a:cubicBezTo>
                        <a:cubicBezTo>
                          <a:pt x="526" y="491"/>
                          <a:pt x="656" y="376"/>
                          <a:pt x="643" y="240"/>
                        </a:cubicBezTo>
                        <a:cubicBezTo>
                          <a:pt x="630" y="104"/>
                          <a:pt x="478" y="0"/>
                          <a:pt x="305" y="7"/>
                        </a:cubicBezTo>
                        <a:cubicBezTo>
                          <a:pt x="131" y="15"/>
                          <a:pt x="0" y="131"/>
                          <a:pt x="13" y="267"/>
                        </a:cubicBez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4" name=""/>
              <p:cNvSpPr/>
              <p:nvPr/>
            </p:nvSpPr>
            <p:spPr>
              <a:xfrm>
                <a:off x="7020000" y="3987000"/>
                <a:ext cx="711000" cy="326880"/>
              </a:xfrm>
              <a:custGeom>
                <a:avLst/>
                <a:gdLst/>
                <a:ahLst/>
                <a:rect l="l" t="t" r="r" b="b"/>
                <a:pathLst>
                  <a:path w="2117" h="1036">
                    <a:moveTo>
                      <a:pt x="2014" y="238"/>
                    </a:moveTo>
                    <a:cubicBezTo>
                      <a:pt x="2116" y="476"/>
                      <a:pt x="1795" y="828"/>
                      <a:pt x="1258" y="931"/>
                    </a:cubicBezTo>
                    <a:cubicBezTo>
                      <a:pt x="721" y="1035"/>
                      <a:pt x="203" y="925"/>
                      <a:pt x="101" y="688"/>
                    </a:cubicBezTo>
                    <a:cubicBezTo>
                      <a:pt x="0" y="450"/>
                      <a:pt x="964" y="762"/>
                      <a:pt x="1500" y="659"/>
                    </a:cubicBezTo>
                    <a:cubicBezTo>
                      <a:pt x="2036" y="555"/>
                      <a:pt x="1912" y="0"/>
                      <a:pt x="2014" y="23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62400" y="4092840"/>
                <a:ext cx="122760" cy="153000"/>
              </a:xfrm>
              <a:custGeom>
                <a:avLst/>
                <a:gdLst/>
                <a:ahLst/>
                <a:rect l="l" t="t" r="r" b="b"/>
                <a:pathLst>
                  <a:path w="368" h="487">
                    <a:moveTo>
                      <a:pt x="176" y="199"/>
                    </a:moveTo>
                    <a:cubicBezTo>
                      <a:pt x="0" y="347"/>
                      <a:pt x="178" y="401"/>
                      <a:pt x="204" y="486"/>
                    </a:cubicBezTo>
                    <a:cubicBezTo>
                      <a:pt x="30" y="402"/>
                      <a:pt x="7" y="338"/>
                      <a:pt x="97" y="170"/>
                    </a:cubicBezTo>
                    <a:cubicBezTo>
                      <a:pt x="114" y="95"/>
                      <a:pt x="79" y="0"/>
                      <a:pt x="250" y="38"/>
                    </a:cubicBezTo>
                    <a:cubicBezTo>
                      <a:pt x="367" y="70"/>
                      <a:pt x="267" y="171"/>
                      <a:pt x="176" y="19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59280" y="3759840"/>
                <a:ext cx="3418200" cy="1818360"/>
              </a:xfrm>
              <a:custGeom>
                <a:avLst/>
                <a:gdLst/>
                <a:ahLst/>
                <a:rect l="l" t="t" r="r" b="b"/>
                <a:pathLst>
                  <a:path w="10174" h="5761">
                    <a:moveTo>
                      <a:pt x="10173" y="3313"/>
                    </a:moveTo>
                    <a:cubicBezTo>
                      <a:pt x="8529" y="5276"/>
                      <a:pt x="6768" y="2603"/>
                      <a:pt x="5562" y="2603"/>
                    </a:cubicBezTo>
                    <a:cubicBezTo>
                      <a:pt x="3572" y="2603"/>
                      <a:pt x="3600" y="5760"/>
                      <a:pt x="1370" y="4739"/>
                    </a:cubicBezTo>
                    <a:cubicBezTo>
                      <a:pt x="0" y="4184"/>
                      <a:pt x="1186" y="1197"/>
                      <a:pt x="5532" y="2591"/>
                    </a:cubicBezTo>
                    <a:cubicBezTo>
                      <a:pt x="9692" y="0"/>
                      <a:pt x="10173" y="2496"/>
                      <a:pt x="10173" y="331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59280" y="3713760"/>
                <a:ext cx="3418200" cy="1818360"/>
              </a:xfrm>
              <a:custGeom>
                <a:avLst/>
                <a:gdLst/>
                <a:ahLst/>
                <a:rect l="l" t="t" r="r" b="b"/>
                <a:pathLst>
                  <a:path w="10174" h="5761">
                    <a:moveTo>
                      <a:pt x="10173" y="3313"/>
                    </a:moveTo>
                    <a:cubicBezTo>
                      <a:pt x="8529" y="5276"/>
                      <a:pt x="6768" y="2604"/>
                      <a:pt x="5562" y="2604"/>
                    </a:cubicBezTo>
                    <a:cubicBezTo>
                      <a:pt x="3572" y="2604"/>
                      <a:pt x="3600" y="5760"/>
                      <a:pt x="1370" y="4739"/>
                    </a:cubicBezTo>
                    <a:cubicBezTo>
                      <a:pt x="0" y="4185"/>
                      <a:pt x="1186" y="1197"/>
                      <a:pt x="5532" y="2591"/>
                    </a:cubicBezTo>
                    <a:cubicBezTo>
                      <a:pt x="9692" y="0"/>
                      <a:pt x="10173" y="2497"/>
                      <a:pt x="10173" y="3313"/>
                    </a:cubicBezTo>
                  </a:path>
                </a:pathLst>
              </a:custGeom>
              <a:solidFill>
                <a:srgbClr val="ffffff"/>
              </a:solidFill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14840" y="4325040"/>
                <a:ext cx="631080" cy="393840"/>
              </a:xfrm>
              <a:prstGeom prst="ellipse">
                <a:avLst/>
              </a:prstGeom>
              <a:solidFill>
                <a:srgbClr val="ffffff"/>
              </a:solidFill>
              <a:ln w="21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5520" y="4296240"/>
                <a:ext cx="1284480" cy="971640"/>
              </a:xfrm>
              <a:custGeom>
                <a:avLst/>
                <a:gdLst/>
                <a:ahLst/>
                <a:rect l="l" t="t" r="r" b="b"/>
                <a:pathLst>
                  <a:path w="3823" h="3078">
                    <a:moveTo>
                      <a:pt x="1302" y="3025"/>
                    </a:moveTo>
                    <a:cubicBezTo>
                      <a:pt x="770" y="3077"/>
                      <a:pt x="39" y="2729"/>
                      <a:pt x="0" y="2397"/>
                    </a:cubicBezTo>
                    <a:cubicBezTo>
                      <a:pt x="1095" y="2611"/>
                      <a:pt x="3822" y="0"/>
                      <a:pt x="3543" y="1002"/>
                    </a:cubicBezTo>
                    <a:cubicBezTo>
                      <a:pt x="2600" y="1510"/>
                      <a:pt x="2178" y="2921"/>
                      <a:pt x="1302" y="3025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17840" y="4124520"/>
                <a:ext cx="1228320" cy="437040"/>
              </a:xfrm>
              <a:custGeom>
                <a:avLst/>
                <a:gdLst/>
                <a:ahLst/>
                <a:rect l="l" t="t" r="r" b="b"/>
                <a:pathLst>
                  <a:path w="3656" h="1385">
                    <a:moveTo>
                      <a:pt x="2525" y="232"/>
                    </a:moveTo>
                    <a:cubicBezTo>
                      <a:pt x="3025" y="365"/>
                      <a:pt x="3655" y="1084"/>
                      <a:pt x="3439" y="1384"/>
                    </a:cubicBezTo>
                    <a:cubicBezTo>
                      <a:pt x="2550" y="0"/>
                      <a:pt x="177" y="1354"/>
                      <a:pt x="0" y="858"/>
                    </a:cubicBezTo>
                    <a:cubicBezTo>
                      <a:pt x="469" y="630"/>
                      <a:pt x="1689" y="30"/>
                      <a:pt x="2525" y="232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58480" y="4421160"/>
                <a:ext cx="494640" cy="362160"/>
              </a:xfrm>
              <a:custGeom>
                <a:avLst/>
                <a:gdLst/>
                <a:ahLst/>
                <a:rect l="l" t="t" r="r" b="b"/>
                <a:pathLst>
                  <a:path w="1472" h="1148">
                    <a:moveTo>
                      <a:pt x="1287" y="0"/>
                    </a:moveTo>
                    <a:cubicBezTo>
                      <a:pt x="1471" y="267"/>
                      <a:pt x="1292" y="547"/>
                      <a:pt x="954" y="785"/>
                    </a:cubicBezTo>
                    <a:cubicBezTo>
                      <a:pt x="660" y="964"/>
                      <a:pt x="184" y="947"/>
                      <a:pt x="0" y="679"/>
                    </a:cubicBezTo>
                    <a:cubicBezTo>
                      <a:pt x="521" y="112"/>
                      <a:pt x="394" y="1147"/>
                      <a:pt x="1068" y="676"/>
                    </a:cubicBezTo>
                    <a:cubicBezTo>
                      <a:pt x="1440" y="342"/>
                      <a:pt x="749" y="87"/>
                      <a:pt x="1287" y="0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05760" y="4430880"/>
                <a:ext cx="572040" cy="175320"/>
              </a:xfrm>
              <a:custGeom>
                <a:avLst/>
                <a:gdLst/>
                <a:ahLst/>
                <a:rect l="l" t="t" r="r" b="b"/>
                <a:pathLst>
                  <a:path w="1703" h="554">
                    <a:moveTo>
                      <a:pt x="0" y="553"/>
                    </a:moveTo>
                    <a:cubicBezTo>
                      <a:pt x="300" y="249"/>
                      <a:pt x="817" y="135"/>
                      <a:pt x="1671" y="0"/>
                    </a:cubicBezTo>
                    <a:cubicBezTo>
                      <a:pt x="1702" y="39"/>
                      <a:pt x="1617" y="38"/>
                      <a:pt x="1542" y="90"/>
                    </a:cubicBezTo>
                    <a:cubicBezTo>
                      <a:pt x="320" y="256"/>
                      <a:pt x="841" y="525"/>
                      <a:pt x="0" y="553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315280" y="4807080"/>
                <a:ext cx="466560" cy="165600"/>
              </a:xfrm>
              <a:custGeom>
                <a:avLst/>
                <a:gdLst/>
                <a:ahLst/>
                <a:rect l="l" t="t" r="r" b="b"/>
                <a:pathLst>
                  <a:path w="1389" h="525">
                    <a:moveTo>
                      <a:pt x="1388" y="484"/>
                    </a:moveTo>
                    <a:cubicBezTo>
                      <a:pt x="955" y="524"/>
                      <a:pt x="577" y="353"/>
                      <a:pt x="0" y="38"/>
                    </a:cubicBezTo>
                    <a:cubicBezTo>
                      <a:pt x="19" y="0"/>
                      <a:pt x="64" y="40"/>
                      <a:pt x="150" y="44"/>
                    </a:cubicBezTo>
                    <a:cubicBezTo>
                      <a:pt x="951" y="511"/>
                      <a:pt x="914" y="113"/>
                      <a:pt x="1388" y="484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11120" y="3669120"/>
                <a:ext cx="549360" cy="317520"/>
              </a:xfrm>
              <a:custGeom>
                <a:avLst/>
                <a:gdLst/>
                <a:ahLst/>
                <a:rect l="l" t="t" r="r" b="b"/>
                <a:pathLst>
                  <a:path w="1635" h="1007">
                    <a:moveTo>
                      <a:pt x="1453" y="288"/>
                    </a:moveTo>
                    <a:cubicBezTo>
                      <a:pt x="1594" y="466"/>
                      <a:pt x="1345" y="919"/>
                      <a:pt x="1095" y="1006"/>
                    </a:cubicBezTo>
                    <a:cubicBezTo>
                      <a:pt x="1634" y="12"/>
                      <a:pt x="0" y="300"/>
                      <a:pt x="189" y="31"/>
                    </a:cubicBezTo>
                    <a:cubicBezTo>
                      <a:pt x="508" y="36"/>
                      <a:pt x="1209" y="0"/>
                      <a:pt x="1453" y="288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2640" y="2700360"/>
                <a:ext cx="1189800" cy="506520"/>
              </a:xfrm>
              <a:custGeom>
                <a:avLst/>
                <a:gdLst/>
                <a:ahLst/>
                <a:rect l="l" t="t" r="r" b="b"/>
                <a:pathLst>
                  <a:path w="3541" h="1605">
                    <a:moveTo>
                      <a:pt x="3490" y="413"/>
                    </a:moveTo>
                    <a:cubicBezTo>
                      <a:pt x="3540" y="707"/>
                      <a:pt x="2878" y="652"/>
                      <a:pt x="1848" y="1119"/>
                    </a:cubicBezTo>
                    <a:cubicBezTo>
                      <a:pt x="399" y="968"/>
                      <a:pt x="111" y="1604"/>
                      <a:pt x="0" y="1257"/>
                    </a:cubicBezTo>
                    <a:cubicBezTo>
                      <a:pt x="578" y="933"/>
                      <a:pt x="1445" y="1095"/>
                      <a:pt x="1865" y="1072"/>
                    </a:cubicBezTo>
                    <a:cubicBezTo>
                      <a:pt x="2053" y="834"/>
                      <a:pt x="3420" y="0"/>
                      <a:pt x="3490" y="41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03160" y="3005280"/>
                <a:ext cx="556920" cy="174960"/>
              </a:xfrm>
              <a:custGeom>
                <a:avLst/>
                <a:gdLst/>
                <a:ahLst/>
                <a:rect l="l" t="t" r="r" b="b"/>
                <a:pathLst>
                  <a:path w="1660" h="555">
                    <a:moveTo>
                      <a:pt x="825" y="56"/>
                    </a:moveTo>
                    <a:cubicBezTo>
                      <a:pt x="985" y="78"/>
                      <a:pt x="1659" y="372"/>
                      <a:pt x="1368" y="554"/>
                    </a:cubicBezTo>
                    <a:cubicBezTo>
                      <a:pt x="1300" y="0"/>
                      <a:pt x="0" y="422"/>
                      <a:pt x="9" y="258"/>
                    </a:cubicBezTo>
                    <a:cubicBezTo>
                      <a:pt x="177" y="132"/>
                      <a:pt x="553" y="26"/>
                      <a:pt x="825" y="56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31760" y="3120840"/>
                <a:ext cx="491760" cy="169560"/>
              </a:xfrm>
              <a:custGeom>
                <a:avLst/>
                <a:gdLst/>
                <a:ahLst/>
                <a:rect l="l" t="t" r="r" b="b"/>
                <a:pathLst>
                  <a:path w="1463" h="539">
                    <a:moveTo>
                      <a:pt x="664" y="73"/>
                    </a:moveTo>
                    <a:cubicBezTo>
                      <a:pt x="809" y="88"/>
                      <a:pt x="1462" y="349"/>
                      <a:pt x="1251" y="538"/>
                    </a:cubicBezTo>
                    <a:cubicBezTo>
                      <a:pt x="1065" y="0"/>
                      <a:pt x="30" y="462"/>
                      <a:pt x="0" y="302"/>
                    </a:cubicBezTo>
                    <a:cubicBezTo>
                      <a:pt x="118" y="172"/>
                      <a:pt x="421" y="55"/>
                      <a:pt x="664" y="73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8:36:53Z</dcterms:created>
  <dc:creator>imc</dc:creator>
  <dc:description/>
  <dc:language>en-US</dc:language>
  <cp:lastModifiedBy>imc</cp:lastModifiedBy>
  <dcterms:modified xsi:type="dcterms:W3CDTF">2013-04-01T08:37:32Z</dcterms:modified>
  <cp:revision>1</cp:revision>
  <dc:subject/>
  <dc:title>МБДОУ № 35 </dc:title>
</cp:coreProperties>
</file>