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4.png" ContentType="image/png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CEB5-12C3-420D-936C-7AF5FE58E6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AE57-2271-4FCF-B460-2378397DD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8D9B-FDEF-4D9E-907C-DC9FDFE08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1169-ACC3-4701-A573-274726E96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E6F7-3691-45C6-9514-0A6B1C6D4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B3B-9340-469D-984B-4DBCCDCA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93C-D9D8-4ECE-98E8-74F75038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A04-D1AC-419F-A81A-2C20EFFB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F8C-5D7D-427F-BB16-49BE6ED5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DE9C-C25F-4B25-8F01-55ED621B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3034-3136-4B61-8FE4-87CE5223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7A6C-B625-4864-9A9E-4CE396BA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FDAD-0666-4ED2-B665-3437D697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A548-ADEB-4498-B814-6D3819B7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9F45-4B3F-464D-9205-5ED26CA0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276F-71DE-49B4-BDFC-D75C02E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5BB-6B4B-44C8-BD63-2264922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9CE9-4A87-4FF1-BB69-E1D228D9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BB29-9481-4224-B05E-80725F5E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C18B-9369-489B-8A9F-EEEE85CA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7E1E-3220-4870-AAAC-6AEFA877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B573-6B59-4C06-B043-C82A5DA9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C9B-0810-4006-941E-F1BE9AA1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B7F-1EBB-4EE2-8F80-D37F36ED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A68-4DB4-42DD-BBB6-C6362658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634-B9D8-481D-8993-B2ADB643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DD7-8879-47DA-852C-69748108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2A8-8682-48DB-BFFD-659A8420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BFB-9379-41BB-BCF3-ECFF4C48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6027-9CEF-4B3A-94D3-DD32E74C66EE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0809-820E-44F8-8147-4E33A104F3C7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143000"/>
            <a:ext cx="7448400" cy="7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62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0" y="335160"/>
            <a:ext cx="94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 ДОШКО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УЧРЕЖДЕНИЕ  №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2357280" y="600084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95280" y="1125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зик  Алевтина  Никола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1763640" y="242100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aramond"/>
              </a:rPr>
              <a:t>Образовательная область «Художественное твор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Проект « Угол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Старший дошкольный возра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хема 5" descr=""/>
          <p:cNvPicPr/>
          <p:nvPr/>
        </p:nvPicPr>
        <p:blipFill>
          <a:blip r:embed="rId1"/>
          <a:stretch/>
        </p:blipFill>
        <p:spPr>
          <a:xfrm>
            <a:off x="-19080" y="835200"/>
            <a:ext cx="9182160" cy="7059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826920" y="134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ент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3635280" y="1341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кт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6588000" y="1197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Но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- ГРАФ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ДАЛЬНИЕ ЦЕЛИ: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оказать возможности угля, как изо материала для развития творческих способностей детей старшего дошкольного возраста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Эффективно использовать приемы сотрудничества детей, родителей, воспитателей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Воспитывать эстетические чувства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и общении с прекрасным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9" name="Рисунок 3" descr="x_5124d9f6.jpg"/>
          <p:cNvPicPr/>
          <p:nvPr/>
        </p:nvPicPr>
        <p:blipFill>
          <a:blip r:embed="rId1"/>
          <a:stretch/>
        </p:blipFill>
        <p:spPr>
          <a:xfrm>
            <a:off x="1285920" y="214200"/>
            <a:ext cx="7691400" cy="1857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15.jpg"/>
          <p:cNvPicPr/>
          <p:nvPr/>
        </p:nvPicPr>
        <p:blipFill>
          <a:blip r:embed="rId2"/>
          <a:stretch/>
        </p:blipFill>
        <p:spPr>
          <a:xfrm>
            <a:off x="6286680" y="5000760"/>
            <a:ext cx="2190600" cy="163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aramond"/>
              </a:rPr>
              <a:t>Ближайшие цели: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02" name="Рисунок 5" descr="00000612.JPG"/>
          <p:cNvPicPr/>
          <p:nvPr/>
        </p:nvPicPr>
        <p:blipFill>
          <a:blip r:embed="rId1"/>
          <a:stretch/>
        </p:blipFill>
        <p:spPr>
          <a:xfrm>
            <a:off x="826920" y="1989000"/>
            <a:ext cx="3414960" cy="460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47920" y="1125000"/>
            <a:ext cx="7238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едставить уже знакомый материал в новом содержании.                                                               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пособствовать развитию у детей чувства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екрасного, через ознакомление их с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оизведениями  художников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Воспитывать у детей художественно-     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эстетический вкус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омочь воспитателям выстроить систему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работы  с монохромными материалам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ивлечь родителей к совместной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               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деятельности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 spd="slow">
    <p:blinds dir="horz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0" y="189000"/>
            <a:ext cx="9144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Garamond"/>
                <a:ea typeface="Times New Roman"/>
              </a:rPr>
              <a:t>Педагогические методы и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и взрослых с углем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потенциальные изобразительные и выраз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угля, через изучение качеств и свойств  изо материала и экспериментирование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творческие способности, через показ вариантов использования уг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детям в создании ярких и выразительных обра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сширению образователь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ителями и педаг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52_resize.JPG"/>
          <p:cNvPicPr/>
          <p:nvPr/>
        </p:nvPicPr>
        <p:blipFill>
          <a:blip r:embed="rId1"/>
          <a:stretch/>
        </p:blipFill>
        <p:spPr>
          <a:xfrm>
            <a:off x="285840" y="4214880"/>
            <a:ext cx="395928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51_resize.JPG"/>
          <p:cNvPicPr/>
          <p:nvPr/>
        </p:nvPicPr>
        <p:blipFill>
          <a:blip r:embed="rId2"/>
          <a:stretch/>
        </p:blipFill>
        <p:spPr>
          <a:xfrm>
            <a:off x="4546440" y="4214880"/>
            <a:ext cx="43117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387360"/>
            <a:ext cx="84358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08" name="Содержимое 14" descr="000723.jpg"/>
          <p:cNvPicPr/>
          <p:nvPr/>
        </p:nvPicPr>
        <p:blipFill>
          <a:blip r:embed="rId1"/>
          <a:stretch/>
        </p:blipFill>
        <p:spPr>
          <a:xfrm>
            <a:off x="4427640" y="1125360"/>
            <a:ext cx="4537080" cy="2167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427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61e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сутствие развернутых методик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аботы с детьми дошкольного возраста с монохромными материалами, в том числе углем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стематизация методического материала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нятость родителей.  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10" name="Рисунок 5" descr="001695.jpg"/>
          <p:cNvPicPr/>
          <p:nvPr/>
        </p:nvPicPr>
        <p:blipFill>
          <a:blip r:embed="rId2"/>
          <a:stretch/>
        </p:blipFill>
        <p:spPr>
          <a:xfrm>
            <a:off x="4265640" y="3500280"/>
            <a:ext cx="487836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5"/>
          <p:cNvSpPr/>
          <p:nvPr/>
        </p:nvSpPr>
        <p:spPr>
          <a:xfrm>
            <a:off x="1730520" y="404640"/>
            <a:ext cx="47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Трудности 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897480" y="1268280"/>
            <a:ext cx="24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Труд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aramond"/>
              </a:rPr>
              <a:t>Решения: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47560" y="1052280"/>
            <a:ext cx="7227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Подбор литературы и материалов об угле для рисования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Анализ и систематизация материалов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Создание совместно с родителями мультимедийной  презентации для детей «Волшебный уголек»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Проведение мастер- класса для воспитателей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на тему: « Рисование углем с детьми старшего дошкольного возраста»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Организация тематической полки: « В гостях у Уголька»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 spd="slow">
    <p:blinds dir="horz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4" descr="risovanie13_clip_image022.jpg"/>
          <p:cNvPicPr/>
          <p:nvPr/>
        </p:nvPicPr>
        <p:blipFill>
          <a:blip r:embed="rId1"/>
          <a:stretch/>
        </p:blipFill>
        <p:spPr>
          <a:xfrm>
            <a:off x="1835280" y="549360"/>
            <a:ext cx="6062400" cy="58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blinds dir="horz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3152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17" name="Содержимое 9" descr="DSCN0995.JPG"/>
          <p:cNvPicPr/>
          <p:nvPr/>
        </p:nvPicPr>
        <p:blipFill>
          <a:blip r:embed="rId1"/>
          <a:stretch/>
        </p:blipFill>
        <p:spPr>
          <a:xfrm>
            <a:off x="871560" y="60480"/>
            <a:ext cx="4687920" cy="665136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8" descr="DSCN1013.JPG"/>
          <p:cNvPicPr/>
          <p:nvPr/>
        </p:nvPicPr>
        <p:blipFill>
          <a:blip r:embed="rId2"/>
          <a:stretch/>
        </p:blipFill>
        <p:spPr>
          <a:xfrm>
            <a:off x="4614840" y="92160"/>
            <a:ext cx="4797360" cy="6746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00816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20" name="Содержимое 15" descr="DSCN1018.JPG"/>
          <p:cNvPicPr/>
          <p:nvPr/>
        </p:nvPicPr>
        <p:blipFill>
          <a:blip r:embed="rId1"/>
          <a:stretch/>
        </p:blipFill>
        <p:spPr>
          <a:xfrm>
            <a:off x="3203640" y="349200"/>
            <a:ext cx="5400720" cy="569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74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684360" y="189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0" y="1268280"/>
            <a:ext cx="427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Потап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зобрази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художественный тру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спользованием современных материалов в ДОУ». С- П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тво- пресс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йзл Гаррисон «Рисуно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ь»- М.Эксмо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2:55Z</dcterms:created>
  <dc:creator>Hp</dc:creator>
  <dc:description/>
  <dc:language>en-US</dc:language>
  <cp:lastModifiedBy>imc</cp:lastModifiedBy>
  <dcterms:modified xsi:type="dcterms:W3CDTF">2012-11-29T11:33:54Z</dcterms:modified>
  <cp:revision>1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49</vt:lpwstr>
  </property>
</Properties>
</file>